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B5F7-9579-4F69-BF72-30EAD3D3B8D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ACA4-BAAB-4925-969A-9D75310EE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588A-DB62-4D8F-8A4C-68CFD68BA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FC85-E0CB-4AF1-8670-9CC25FB94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BD1F-2AAD-4A4A-BD57-37A9C7D3E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3A54-D70C-4881-80C1-26346D63E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8326-26E4-4D0E-BF50-6D0445F35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AD0F-5A07-4CDB-A1C5-6507ED311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3E5F-8433-4ACF-9639-A5ACC424C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3B6B-70E9-486F-8AFE-5458EA9E3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9E20-C706-4C3A-B30D-F2741289C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0F95-034D-4C4E-975A-65FCB78D5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115B-CFE1-479C-82F0-D42F7CF71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2E8F-5615-4A33-9171-4B9091933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7EAD-769C-4B1E-9920-FD5EED180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3F41-9DCC-48FC-B10B-A38A73FAF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CF70-DA1C-4F9B-BA92-B7ECC2288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C522-71A4-427D-BDAA-83B15F3A2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475D-892B-4F6A-A9ED-6E3648EFC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364D-689C-40AD-BD09-0D4CB8C1F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EE42-40EA-49DB-A13D-0D6C077C5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2523-26D3-4F45-A72C-03D83F0F2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092E-2974-436A-A494-7AEBED489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D9C0-DB94-4082-96DA-05271BD30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9876-8D8D-4EF2-AC31-3188087EE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3747-9E37-4551-9754-A85E7F71D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7DAB-194B-46DA-AF48-B4A819FED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36C2-CAB8-4BA8-9C0F-4C8A8DBED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3458-885F-426D-ACA9-1EC533D54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534C-E708-4FCB-B936-A45A9EF21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9920-17B8-465C-ABFC-8E844584A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F160-5B61-4715-960F-E15F01044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D12C-CA69-4BCA-AEDF-329147531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2343-CE17-4709-A4F7-E2FE86ADA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6736-A55D-4700-AD70-DAB594957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4647-440E-40AC-8CCD-C378C13DC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F9EE-AA8E-459A-95D8-3E8D14654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BAF4-CB10-42B6-ACEA-B121BA10E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1653-ADCB-488F-875B-BF1B28F67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D8AE-70D0-40C1-9827-4C97267A7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2254-9330-48C9-AA2A-D3388A299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8D27-5702-43C9-8CE7-DC3D36FB0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AE9C-F59B-4C1E-AD1C-2AEA12559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96EC-814D-4704-919C-137282787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0084-BAEE-4DB0-A964-2ECCE03BB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13A5-11F5-4F4E-9E28-12438578A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E5EA-A1B9-4F14-8FE2-9EE5EA589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3118-BE36-4EE4-B78F-960CE6192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6845-2417-44CC-94E5-70EE8B61D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D9D6-5194-4C13-80BB-1D303CF6D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946A-B460-4D34-BB77-A0BBC23B1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0C5F-BC1C-4705-A1B5-281173F47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4D89-1A6B-47FC-AA0E-0B5725DFF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A842-4085-421F-9E81-E18245551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D75C-EACD-49B0-A0B2-2ADB0AD02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CF5E-45C8-4AF0-AD6B-10886CCBD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D42F-00BD-47A1-9FAF-A000B5C7B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F312-0774-450B-B290-E8E172A54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C3B-B444-4475-B30B-4DE160D5B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13C0-B0A0-4065-8258-D55D48E69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FBF9-C17C-4D89-B1BF-B6A89FC9D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A3C4-0F91-40DE-B6BE-DCDC47AA3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83BE-76A3-40AA-860F-3EDB73190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B640-8AE5-4B12-BF11-3868AFC5A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6B52-5145-45AD-9E05-82049E1D1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1160-CA33-4B9B-95A0-6B712A1FC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2770-B36C-4E64-8A4F-429266C81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DA33-0995-4F4A-A2E1-62C255837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B59C-C836-4076-A22B-13AB025DB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B3A4-0C6D-4E59-BD19-813EBB2C5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FD282-9E68-48FC-9EB0-5D8F3B7A6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A6868-21A8-4FE8-8FE4-CC66ECD8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0CC560-2F7F-4318-A4DE-C6601FE5F5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BDC2C1-70A7-487E-B876-CC6BA4D9CE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9A01D-41B3-4C50-B752-96C46672EE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0EC17-6D78-4EF9-9E09-C4986A4960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ED55B-F49D-4ADA-ABCE-AEF31419F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8DC08-00AC-4D31-84B5-145E171B1E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C90CF-9B5E-4B1E-819D-75EF1B443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494B7F-4636-483C-9B1C-98DA403C70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997BBE-4E7A-4C8F-807B-29DB262579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782B4E-C49F-4763-B0CF-091EAC1AB8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ADAB3-645C-41E0-A89B-720953AA0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E2404E-D8E9-4ECC-8E3F-86506B8C31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EADA8E-85D2-4C6A-8EB0-652392C2C2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1EE6F5-2F8B-4851-9DFF-BE9F153522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DFDB3B-3DA5-4989-B283-D40E429E45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2F258D-0D27-4600-B5D2-5CF3EF5FE3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713B79-B19B-49C4-90C9-733FF7DFDA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F482BA-02E6-419B-AF6B-DB756EBF56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7ED135-1CFA-43FF-B351-05019F92BC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90F849-2E12-4D82-B0A7-DD971501DB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22E580-1FEE-44D9-B527-F48015C97B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85059-DBFE-4687-A342-A62375509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CDBEB8-D17B-42B7-A549-B8AC2D7672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1C51CE-21B4-4D87-A5CA-34ED51329B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DB5EE9-B50A-4EC5-9920-55C6D6C25C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BBE55E-248E-4B68-A0F2-342203A65D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AF1FB2-A2B6-44EC-BDDF-0E2BBC920F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226A00-6189-48CE-8C0E-D3A9AB3CD9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F8F5A4-5462-4E7A-9C77-DCD0F5C82B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C5A5C6-6173-451D-8259-1ED4093A01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34F0B5-6F5B-4149-98CA-479A9861E6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4D1A6D-A17E-422A-87DA-6DC92B83CC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8B32F-8C3F-4E8C-9D05-C5B31BB14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423909-BF90-4CA3-A4E6-5D8E3719DC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FA8ABF-4BAA-4863-BE44-77C0A0B587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ADF3D4-203E-4636-85EA-7283B41C7B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CA68DD-50D3-4E86-B7BA-DAA491EDCD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6BFE57-61FE-47CB-AFC0-A789ED8EB6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AF4FDF-0FF5-4931-AE62-9F039B8911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589B98-59E7-45F6-9B5A-0F5ACF0E33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97D435-9C92-467F-95B3-D42937739C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FE15CC-1760-4160-9547-44E0ECCC14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F8C646-7763-4B91-8577-2A73E68FF4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A19C7-F7CF-4411-ACA4-FB348BCEF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4D1573-7CFD-47B8-B20A-3B6AF9C43A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069DCD-B755-4AE4-A5A9-EDC61DC580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C5FB7A-DB00-4E7A-9391-B0412DA7C1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952C48-F732-419C-A5B3-13AC38E7F6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C0C5D7-7E3B-46CA-8B6C-15C1280B10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BE04108-8A6D-4084-B0F0-3DE85C5515F3}"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2CA0D27-AEC1-4CF7-AC3B-F418218328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CDDF274-AD0A-4771-ACAC-887C57BB97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416EEE9-49F8-4FB9-948B-274E11B10E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E6C3809-75F8-4F5E-8C94-8B74069ADE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95547-CD51-477A-ACD2-397CF78E7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2F002D1-1BC8-40EA-BDFD-4FC73C27EF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0B0328A-9BB8-4A99-B420-717F6281C8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19ED0E8-EF68-4907-B749-8868DC3B86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B1A4CA2-A332-43B2-871C-5162A0B47D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D02ADF8-9663-498F-8989-B2F295FD74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B2A0858-1F68-4B6F-9CFF-068E02C5B0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8C00592-647A-48E2-B656-A5CCA5E6828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ED020-6D56-4811-B841-40D76CAFD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E365F-E5DD-4A26-BB61-17C6AC3D7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AB414-464C-4499-A8D9-62F5C82E0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DA012-4B43-42D1-B4BE-3223628F7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77F73-11BD-46ED-8ECC-33D83398A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5B240-EABB-4142-A4B6-F6E16B555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E4422-747B-4341-B6BE-35067B8B7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69778-8C6B-49BF-BF11-83C7A085E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E1D58-C0EE-4A4C-A8FA-55D940632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9C52C-FE94-4869-A2A2-1D89B4C19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3FBAFE-D5E9-421D-949C-999A6A5B66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77C66-3819-4D3A-A9AB-3047CC882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8882F-19DF-469C-8483-0BCE6CDF15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CD55D-F33B-4281-BE91-E5282C0D8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4B8C3-85B6-4A5A-8E62-F46CCE81F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2261-E00C-492B-AAE1-DA9218E71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D80ADE-6D22-4C6E-BEBA-19714FCEE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CAB60-1BAB-44B2-B87F-8B521F87E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6D686-CA30-44CD-B5CA-D755FA418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94F60-E138-440A-8A3C-412F8AF17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41EB6-52C4-45E4-9971-B8AEEF20D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223139-871E-405E-8430-E7D02972B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2BD8D-D98A-4742-BFF3-24C48E37B5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1DD2B2-A912-453A-8A0D-62B2B3B60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5958A-73F2-4D6F-AC3C-15F12408C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307A6-4A62-4650-ACA8-F0C86B001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C37F-D57B-4D8A-A05B-47F328B0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F4D43-7121-452A-8CD4-4DDFEF788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6C4A2-81EC-48D5-8B07-61CD7E81F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655408-0A66-4CB6-93E2-53A7C7FBD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D4B2A-E336-4FA5-BF1F-21AFA5A6D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98A29-026E-4A90-AA0A-2EBE3A2D1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86187-DF37-4CFC-9BBF-65F43FA49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1AF2E-9D81-42CE-B84E-929958A51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ED603-1126-4EDA-B7A4-4928A13DD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C326AE-123C-4038-B5BD-309F5C3302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EE578-841F-4478-BDAF-8E9C29413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5F22B-727C-4EE4-BA8D-CA79C0EC1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6B0BE-7314-4D69-B436-21659EF07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D9B99-4AFB-488D-BD62-6D143A45B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3E91A-17C0-4788-92DC-B6D8A5723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0571C3-B5A7-455C-BE12-50B0BD2FFC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831DCC-82FE-415B-81AE-4AF7DB767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BF2FA-13DC-4AE9-A5A6-2E72BC505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020BC-B9CB-497F-9E38-0E4F1B33E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609FB-8EC0-4636-997D-10CD9A118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974C6-2EF6-442F-A04B-E7894759C5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974CE-23C1-46F9-8FFC-3B9527B470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E3C7-BF14-4BB1-A9B0-BF1505BD5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BA77F5-4C5D-4074-9265-DB56DC52DB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971343-1B87-4CF9-A055-402A8D2C5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E1AAF-6BE2-435C-A1D1-4C820FC95B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F368CF-4B2D-40AC-8293-76E1C96B04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07D21-9AA5-4076-93FA-473DDDA43B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888DB-CE50-49F4-B90C-CCFB5C2A7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2844D-A450-41C4-BA4A-A7AA8277F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1C66C-8494-4B38-83E4-881EB69CD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D4AD0-8BBC-423D-BDCA-C416BE9C5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4BD34-8DB4-4709-95C2-71DCFF880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18E4-D235-43B1-898B-DDEDF7C6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7CE19A-9D7B-4D12-8B32-E16BF57B35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3600E-1552-4A79-8868-8EAC907780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5E8FBA-F267-44DD-BCF8-73B5E81298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AD180D-EB30-4FD9-B442-86D5582E71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E3EF2-1713-497D-B915-414855BED5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7630B-C846-4C23-B3A4-F8F764853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C26816-5174-41CD-BBE2-1B962182CA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F9614-F485-4BE5-89C9-323FDB8812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1059D0-997A-478C-9006-DCEA0CE57D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32A12-CB94-44D6-A710-13A0C5A7E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EBA9-A1C7-4B6C-82F9-0E3CFFCAC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42F83-0591-4A10-B1EF-7474FB884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42665-0669-4212-8CA6-F1077DC57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A0F5D-F62B-4A08-BCC6-C138BE223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E5AC33-0838-49E0-A9E9-54A9C9F0C6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7F127F-AAD4-41BB-B614-A92CC5EA0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54E526-F02A-46D2-9236-A1631C0606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AF4EC8-7320-4C26-8EC9-207D0466DD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F96F2-C5E5-44C8-A975-CD3DF7D04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78DC3B-A932-4A7F-9E93-ACD891AE14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6767D-D80F-4EF1-B0F3-307811929F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48D9-8F05-4903-B5DD-2FC50AA9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D51EAB-1066-44D6-AB2F-882E44943B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5870AD-9AFD-4417-8F37-C46AB7256F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53793F-7AFA-4895-B30E-ABAC24F22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CF7A4-8D37-4D56-B47D-5CCBE505C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BE2AA2-56E8-4F85-92A0-06D73D1F6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CF8FC5-A927-4243-918F-BE9AA8B0AF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B06BE6-DBA7-4672-AB2E-126C1A4843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C49C64-243E-4B5D-B825-8FF49DE6D4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92DCF2-D3A1-4115-BD3E-2020800CD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A20BC4-A386-4692-A297-8C6A6F0B4D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5D87-FD40-494C-A693-D4AFABB6C72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1EC8-058A-4CB4-83D1-AE5750ED2DC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E061-879E-4313-BBFB-F2B225963DA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EDC7-69A8-41D0-8B04-F44415E4F2E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F9DF-C49A-407A-80C5-5F4AD9C6D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F098-0603-482D-AFDD-73BA51693A7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1552-ABA0-4A66-ACE4-33B8DB89D6B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E087-AECF-40C4-B381-8B46A617370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F5A3-7ACF-4661-B413-8564D3675DB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1785-61A9-4ED7-A634-206CBD99F17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3ECC-B14E-4F98-AA61-B8FD81F1AC8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8B7E-4614-453C-8E2E-F3D6BAD573C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3BB9-1FF2-4EC4-99EB-1FC0B7C2E87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125000"/>
            <a:ext cx="7812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26560" y="1125360"/>
            <a:ext cx="799308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920" y="981000"/>
            <a:ext cx="864216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80720" y="1392120"/>
            <a:ext cx="8783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50920" y="1052640"/>
            <a:ext cx="8640720" cy="465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611280" y="1989000"/>
            <a:ext cx="827712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2800"/>
            </a:br>
            <a:br>
              <a:rPr sz="20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69" name="Picture 9" descr=""/>
          <p:cNvPicPr/>
          <p:nvPr/>
        </p:nvPicPr>
        <p:blipFill>
          <a:blip r:embed="rId1"/>
          <a:stretch/>
        </p:blipFill>
        <p:spPr>
          <a:xfrm>
            <a:off x="0" y="0"/>
            <a:ext cx="9144000" cy="1368360"/>
          </a:xfrm>
          <a:prstGeom prst="rect">
            <a:avLst/>
          </a:prstGeom>
          <a:ln w="0">
            <a:noFill/>
          </a:ln>
        </p:spPr>
      </p:pic>
      <p:pic>
        <p:nvPicPr>
          <p:cNvPr id="1170" name="Picture 10" descr=""/>
          <p:cNvPicPr/>
          <p:nvPr/>
        </p:nvPicPr>
        <p:blipFill>
          <a:blip r:embed="rId2"/>
          <a:stretch/>
        </p:blipFill>
        <p:spPr>
          <a:xfrm>
            <a:off x="1258920" y="2060640"/>
            <a:ext cx="1297080" cy="1528560"/>
          </a:xfrm>
          <a:prstGeom prst="rect">
            <a:avLst/>
          </a:prstGeom>
          <a:ln w="0">
            <a:noFill/>
          </a:ln>
        </p:spPr>
      </p:pic>
      <p:pic>
        <p:nvPicPr>
          <p:cNvPr id="1171" name="12 - Εικόνα" descr=""/>
          <p:cNvPicPr/>
          <p:nvPr/>
        </p:nvPicPr>
        <p:blipFill>
          <a:blip r:embed="rId3"/>
          <a:stretch/>
        </p:blipFill>
        <p:spPr>
          <a:xfrm>
            <a:off x="6948360" y="1989000"/>
            <a:ext cx="1444680" cy="1573200"/>
          </a:xfrm>
          <a:prstGeom prst="rect">
            <a:avLst/>
          </a:prstGeom>
          <a:ln w="0">
            <a:noFill/>
          </a:ln>
        </p:spPr>
      </p:pic>
      <p:sp>
        <p:nvSpPr>
          <p:cNvPr id="117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7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7:51:08Z</dcterms:modified>
  <cp:revision>171</cp:revision>
  <dc:subject/>
  <dc:title>Παρουσίαση του PowerPoint</dc:title>
</cp:coreProperties>
</file>